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4A4-1940-48EF-8C3E-7A6A0776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3BC-4BE4-4CC4-AC96-2F86EF01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F43-9FAF-4FF5-A45C-99796F70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CAD-EBC2-4C54-BAF8-367A1A9B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52C-6864-4576-93D6-948E9951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BF49-AF64-4690-80D7-C6E6F6AA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60C-CD9C-4F87-AAD5-8C4B8D67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CE47-074E-4718-9136-63E8DD9B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0AAE-1F4A-4202-8AA3-D5D7B407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666-543E-4702-8380-2581D9D1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AD43-B6CD-4D97-9379-150B59BE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658-9500-4C6F-94CC-B1CBAC6D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E5D1-2BE6-4F6B-8CD1-0635171BEF9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ff66"/>
                </a:solidFill>
                <a:latin typeface="Times New Roman"/>
              </a:rPr>
              <a:t>関数型プログラミング（４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86160"/>
            <a:ext cx="64008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66"/>
                </a:solidFill>
                <a:latin typeface="Times New Roman"/>
              </a:rPr>
              <a:t>金子敬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２　タプル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パタン照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ddPair (0,y) =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ddPair (x,y) = x +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ift :: ((Int,Int),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-&gt; (Int,(Int,Int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ift ((x,y),z) = (x,(y,z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２　タプル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パタン照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ame  :: ShopItem -&gt;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rice :: ShopItem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ame  (n,p) =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rice (n,p) =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２　タプル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パタン照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ddPair :: (Int,Int)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ddPair (x,y) = x+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ddPair :: (Int,Int)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ddPair p = fst p + snd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57440" y="5562720"/>
            <a:ext cx="57909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3399"/>
                </a:solidFill>
                <a:latin typeface="Arial"/>
              </a:rPr>
              <a:t>どちらが読みやすい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２　タプル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例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0, 1, 1, 2, 3, 5, 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...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, u, v, (u+v), 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ibPair n = (fib n , fib (n+1))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とした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ibStep :: (Int,Int) -&gt; (Int,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ibStep (u,v) = (v,u+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ibPair :: Int -&gt; (Int,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ibPair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==0      = 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= fibStep (fibPair (n-1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２　タプル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例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ibPair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ibStep(fibPair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ibStep(fibStep(fibPair 1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ibStep(fibStep(fibStep(fibPair 0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ibStep(fibStep(fibStep (0,1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ibStep(fibStep (1,1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ibStep (1,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2,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038240" y="3063960"/>
            <a:ext cx="577800" cy="118800"/>
            <a:chOff x="1038240" y="3063960"/>
            <a:chExt cx="577800" cy="118800"/>
          </a:xfrm>
        </p:grpSpPr>
        <p:sp>
          <p:nvSpPr>
            <p:cNvPr id="112" name=""/>
            <p:cNvSpPr/>
            <p:nvPr/>
          </p:nvSpPr>
          <p:spPr>
            <a:xfrm>
              <a:off x="1038240" y="306396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492920" y="31276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031760" y="3500280"/>
            <a:ext cx="577800" cy="119160"/>
            <a:chOff x="1031760" y="3500280"/>
            <a:chExt cx="577800" cy="119160"/>
          </a:xfrm>
        </p:grpSpPr>
        <p:sp>
          <p:nvSpPr>
            <p:cNvPr id="115" name=""/>
            <p:cNvSpPr/>
            <p:nvPr/>
          </p:nvSpPr>
          <p:spPr>
            <a:xfrm>
              <a:off x="1031760" y="350028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486440" y="356436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039680" y="3936960"/>
            <a:ext cx="577800" cy="119160"/>
            <a:chOff x="1039680" y="3936960"/>
            <a:chExt cx="577800" cy="119160"/>
          </a:xfrm>
        </p:grpSpPr>
        <p:sp>
          <p:nvSpPr>
            <p:cNvPr id="118" name=""/>
            <p:cNvSpPr/>
            <p:nvPr/>
          </p:nvSpPr>
          <p:spPr>
            <a:xfrm>
              <a:off x="1039680" y="393696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494360" y="400104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047600" y="4373640"/>
            <a:ext cx="577800" cy="119160"/>
            <a:chOff x="1047600" y="4373640"/>
            <a:chExt cx="577800" cy="119160"/>
          </a:xfrm>
        </p:grpSpPr>
        <p:sp>
          <p:nvSpPr>
            <p:cNvPr id="121" name=""/>
            <p:cNvSpPr/>
            <p:nvPr/>
          </p:nvSpPr>
          <p:spPr>
            <a:xfrm>
              <a:off x="1047600" y="437364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502280" y="443772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041480" y="4809960"/>
            <a:ext cx="577800" cy="119160"/>
            <a:chOff x="1041480" y="4809960"/>
            <a:chExt cx="577800" cy="119160"/>
          </a:xfrm>
        </p:grpSpPr>
        <p:sp>
          <p:nvSpPr>
            <p:cNvPr id="124" name=""/>
            <p:cNvSpPr/>
            <p:nvPr/>
          </p:nvSpPr>
          <p:spPr>
            <a:xfrm>
              <a:off x="1041480" y="480996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496160" y="487404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035000" y="5246640"/>
            <a:ext cx="577800" cy="119160"/>
            <a:chOff x="1035000" y="5246640"/>
            <a:chExt cx="577800" cy="119160"/>
          </a:xfrm>
        </p:grpSpPr>
        <p:sp>
          <p:nvSpPr>
            <p:cNvPr id="127" name=""/>
            <p:cNvSpPr/>
            <p:nvPr/>
          </p:nvSpPr>
          <p:spPr>
            <a:xfrm>
              <a:off x="1035000" y="524664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1489680" y="531072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028880" y="5683320"/>
            <a:ext cx="577800" cy="119160"/>
            <a:chOff x="1028880" y="5683320"/>
            <a:chExt cx="577800" cy="119160"/>
          </a:xfrm>
        </p:grpSpPr>
        <p:sp>
          <p:nvSpPr>
            <p:cNvPr id="130" name=""/>
            <p:cNvSpPr/>
            <p:nvPr/>
          </p:nvSpPr>
          <p:spPr>
            <a:xfrm>
              <a:off x="1028880" y="56833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483560" y="57474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898880" y="2068560"/>
            <a:ext cx="3641760" cy="53640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fibStep (u,v) = (v,u+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2840" y="2932200"/>
            <a:ext cx="4572000" cy="449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57240" y="4675320"/>
            <a:ext cx="5354640" cy="419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50760" y="3397320"/>
            <a:ext cx="6400800" cy="404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58680" y="3819600"/>
            <a:ext cx="8359920" cy="404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66960" y="4255920"/>
            <a:ext cx="8359560" cy="405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50760" y="5111640"/>
            <a:ext cx="5354640" cy="419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61920" y="5543640"/>
            <a:ext cx="5354640" cy="419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5394240"/>
            <a:ext cx="4570200" cy="130644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fibPai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| n==0      = (0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|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= fibStep(fibPair(n-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86280" y="3778200"/>
            <a:ext cx="35542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xSegment a b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| a /= 0 = (-c/a,Tr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| otherwise = (0,Fal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練習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5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xSegment :: Float -&gt; Float -&gt; Fl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-&gt; (Float,Bo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955800" y="3381480"/>
            <a:ext cx="15840" cy="309240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5880" y="6299280"/>
            <a:ext cx="306540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957240" y="4848120"/>
            <a:ext cx="2860560" cy="182880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3720" y="4137120"/>
            <a:ext cx="28731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99"/>
                </a:solidFill>
                <a:latin typeface="Times New Roman"/>
              </a:rPr>
              <a:t>ax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ff3399"/>
                </a:solidFill>
                <a:latin typeface="Times New Roman"/>
              </a:rPr>
              <a:t>by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 =</a:t>
            </a:r>
            <a:r>
              <a:rPr b="0" i="1" lang="en-US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5478480"/>
            <a:ext cx="60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200" y="5878440"/>
            <a:ext cx="392400" cy="0"/>
          </a:xfrm>
          <a:prstGeom prst="line">
            <a:avLst/>
          </a:prstGeom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47600" y="5878440"/>
            <a:ext cx="219240" cy="0"/>
          </a:xfrm>
          <a:prstGeom prst="line">
            <a:avLst/>
          </a:prstGeom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21240" y="5297400"/>
            <a:ext cx="3673440" cy="121932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99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=0, </a:t>
            </a:r>
            <a:r>
              <a:rPr b="0" i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=0</a:t>
            </a:r>
            <a:r>
              <a:rPr b="0" lang="ja-JP" sz="2800" spc="-1" strike="noStrike">
                <a:solidFill>
                  <a:srgbClr val="ff3399"/>
                </a:solidFill>
                <a:latin typeface="Times New Roman"/>
              </a:rPr>
              <a:t>などの場合の処理を決める必要が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３　リストへのアプローチ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応用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テキストの表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ype Text = [Lin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ype Line = [Word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ype Word = [Char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スーパーマーケットの領収書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StopItem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測定機器から収集したデータ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Float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３　リストへのアプローチ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リストに対する処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リストからの要素の取り出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 [1,3,2,4,2,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リストの要素への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p (1+) [1,3,2,4,2,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2,4,3,5,3,4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２つのリストへの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1,3,2,4,2,3] ++ [4,3,-1,5,2,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1,3,2,4,2,3,4,3,-1,5,2,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038240" y="3506760"/>
            <a:ext cx="577800" cy="119160"/>
            <a:chOff x="1038240" y="3506760"/>
            <a:chExt cx="577800" cy="119160"/>
          </a:xfrm>
        </p:grpSpPr>
        <p:sp>
          <p:nvSpPr>
            <p:cNvPr id="160" name=""/>
            <p:cNvSpPr/>
            <p:nvPr/>
          </p:nvSpPr>
          <p:spPr>
            <a:xfrm>
              <a:off x="1038240" y="350676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492920" y="357084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046160" y="4800600"/>
            <a:ext cx="577800" cy="119160"/>
            <a:chOff x="1046160" y="4800600"/>
            <a:chExt cx="577800" cy="119160"/>
          </a:xfrm>
        </p:grpSpPr>
        <p:sp>
          <p:nvSpPr>
            <p:cNvPr id="163" name=""/>
            <p:cNvSpPr/>
            <p:nvPr/>
          </p:nvSpPr>
          <p:spPr>
            <a:xfrm>
              <a:off x="1046160" y="48006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500840" y="48646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054080" y="6094440"/>
            <a:ext cx="577800" cy="119160"/>
            <a:chOff x="1054080" y="6094440"/>
            <a:chExt cx="577800" cy="119160"/>
          </a:xfrm>
        </p:grpSpPr>
        <p:sp>
          <p:nvSpPr>
            <p:cNvPr id="166" name=""/>
            <p:cNvSpPr/>
            <p:nvPr/>
          </p:nvSpPr>
          <p:spPr>
            <a:xfrm>
              <a:off x="1054080" y="609444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508760" y="615852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４　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Haskell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におけるリスト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askell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のリス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1,2,3,4,1,4]      :: [Int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True]             :: [Bool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’a’,’b’,’c’]      ::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”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bc”              ::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fac,fastFib]      :: [Int -&gt; Int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[12,2],[2,12],[]] :: [ [Int]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４　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Haskell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におけるリスト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askell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のリス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リストの項目の出現回数，出現順序いずれも重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1,2,1,2,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2,1,1,2,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2,1,1,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832200" y="3324240"/>
            <a:ext cx="4281480" cy="2336760"/>
            <a:chOff x="3832200" y="3324240"/>
            <a:chExt cx="4281480" cy="2336760"/>
          </a:xfrm>
        </p:grpSpPr>
        <p:sp>
          <p:nvSpPr>
            <p:cNvPr id="175" name=""/>
            <p:cNvSpPr/>
            <p:nvPr/>
          </p:nvSpPr>
          <p:spPr>
            <a:xfrm>
              <a:off x="3832200" y="3324240"/>
              <a:ext cx="304920" cy="23367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60840 h 2336760"/>
                <a:gd name="textAreaBottom" fmla="*/ 2275920 h 233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30600" y="4138560"/>
              <a:ext cx="35830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ff5050"/>
                  </a:solidFill>
                  <a:latin typeface="Arial"/>
                </a:rPr>
                <a:t>すべて異なるリス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５　データ型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タプルとリス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５．１　タプル，リストおよび文字列入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５．２　タプル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５．３　リストへのアプロー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５．４　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askell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におけるリス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５．５　リスト包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５．６　図書館データベー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５．７　汎用関数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多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５．８　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relude.hs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中にある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askell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のリスト関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５．９　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tring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要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４　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Haskell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におけるリスト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リストの表記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2 .. 7] = [2,3,4,5,6,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’a’ .. ’m’] = ”abcdefghijkl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7,6 .. 3] = [7,6,5,4,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0.0,0.3 .. 1.0] = [0.0,0.3,0.6,0.9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’a’,’c’ .. ’n’] = ”acegik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５　リスト包含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リスト包含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List Comprehen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１つのリストから，もう１つのリストを構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生成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gener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検査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te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変換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transform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５　リスト包含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例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ex = [2,4,7]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であると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 2*n | n&lt;-ex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4,8,14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 2*n | n &lt;- [2,4,7]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   =  </a:t>
            </a: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　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   4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*n   =  </a:t>
            </a: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　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4   8 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03680" y="3143160"/>
            <a:ext cx="3454560" cy="79704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{  2</a:t>
            </a:r>
            <a:r>
              <a:rPr b="0" i="1" lang="en-US" sz="3600" spc="-1" strike="noStrike">
                <a:solidFill>
                  <a:srgbClr val="ff505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  | </a:t>
            </a:r>
            <a:r>
              <a:rPr b="0" lang="ja-JP" sz="36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505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505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  </a:t>
            </a:r>
            <a:r>
              <a:rPr b="0" i="1" lang="en-US" sz="3600" spc="-1" strike="noStrike">
                <a:solidFill>
                  <a:srgbClr val="ff5050"/>
                </a:solidFill>
                <a:latin typeface="Times New Roman"/>
              </a:rPr>
              <a:t>X  </a:t>
            </a: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038240" y="3921120"/>
            <a:ext cx="577800" cy="119160"/>
            <a:chOff x="1038240" y="3921120"/>
            <a:chExt cx="577800" cy="119160"/>
          </a:xfrm>
        </p:grpSpPr>
        <p:sp>
          <p:nvSpPr>
            <p:cNvPr id="188" name=""/>
            <p:cNvSpPr/>
            <p:nvPr/>
          </p:nvSpPr>
          <p:spPr>
            <a:xfrm>
              <a:off x="1038240" y="39211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492920" y="39852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38280" y="4368960"/>
            <a:ext cx="5268960" cy="1857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５　リスト包含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例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ex = [2,4,7]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であると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 isEven n | n&lt;-ex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True,True,Fals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sEven :: Int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sEven n = n `mod` 2 =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054080" y="3948120"/>
            <a:ext cx="577800" cy="119160"/>
            <a:chOff x="1054080" y="3948120"/>
            <a:chExt cx="577800" cy="119160"/>
          </a:xfrm>
        </p:grpSpPr>
        <p:sp>
          <p:nvSpPr>
            <p:cNvPr id="195" name=""/>
            <p:cNvSpPr/>
            <p:nvPr/>
          </p:nvSpPr>
          <p:spPr>
            <a:xfrm>
              <a:off x="1054080" y="39481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508760" y="40122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５　リスト包含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例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ex = [2,4,7]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であると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 2*n | n &lt;- ex , isEven n , n&gt;3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 2*n | n &lt;- [2,4,7] , isEven n , n&gt;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   =   2   4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sEven n   =   T   T  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&gt;3   =   F  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*n   =     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054080" y="3948120"/>
            <a:ext cx="577800" cy="119160"/>
            <a:chOff x="1054080" y="3948120"/>
            <a:chExt cx="577800" cy="119160"/>
          </a:xfrm>
        </p:grpSpPr>
        <p:sp>
          <p:nvSpPr>
            <p:cNvPr id="201" name=""/>
            <p:cNvSpPr/>
            <p:nvPr/>
          </p:nvSpPr>
          <p:spPr>
            <a:xfrm>
              <a:off x="1054080" y="39481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508760" y="40122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973080" y="5079960"/>
            <a:ext cx="5775480" cy="39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66960" y="5516640"/>
            <a:ext cx="5775120" cy="39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60480" y="5952960"/>
            <a:ext cx="5775120" cy="392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54000" y="6389640"/>
            <a:ext cx="5775480" cy="39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５　リスト包含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例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ddPairs :: [(Int,Int)] -&gt; [Int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ddPairs pL = [ m+n | (m,n) &lt;- pL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 m+n | (m,n) &lt;- [(2,3),(2,1),(7,8)]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   =   2   2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   =   3   1 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+n   =   5   3 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ddPairs [(2,3),(2,1),(7,8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5,3,1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73080" y="3836880"/>
            <a:ext cx="8170920" cy="392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66960" y="4273560"/>
            <a:ext cx="5775120" cy="39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60480" y="4710240"/>
            <a:ext cx="5775120" cy="39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54000" y="5146560"/>
            <a:ext cx="5775480" cy="392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066680" y="6516720"/>
            <a:ext cx="577800" cy="119160"/>
            <a:chOff x="1066680" y="6516720"/>
            <a:chExt cx="577800" cy="119160"/>
          </a:xfrm>
        </p:grpSpPr>
        <p:sp>
          <p:nvSpPr>
            <p:cNvPr id="215" name=""/>
            <p:cNvSpPr/>
            <p:nvPr/>
          </p:nvSpPr>
          <p:spPr>
            <a:xfrm>
              <a:off x="1066680" y="65167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521360" y="65808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930240" y="5950080"/>
            <a:ext cx="6224760" cy="907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５　リスト包含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例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ddOrdPairs :: [(Int,Int)] -&gt; [Int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ddOrdPairs 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[ m+n | (m,n) &lt;- pL , m&lt;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 m+n | (m,n) &lt;- [(2,3),(2,1),(7,8)]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       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&lt;n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   =   2   2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   =   3   1 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&lt;n   =   T   F  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+n   =   5     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73080" y="4294080"/>
            <a:ext cx="8170920" cy="798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66960" y="5102280"/>
            <a:ext cx="5775120" cy="39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0480" y="5538960"/>
            <a:ext cx="5775120" cy="39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54000" y="5975280"/>
            <a:ext cx="5775480" cy="39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61920" y="6354720"/>
            <a:ext cx="5775480" cy="39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５　リスト包含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例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igits :: String -&gt;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igits st = [ch | ch&lt;-st, isDigit ch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sDigit :: Char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igits ”In 1998, Steve Young,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quarter back of 49ers, scored 62.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of pass completion rat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”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199849623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054080" y="6033960"/>
            <a:ext cx="577800" cy="119160"/>
            <a:chOff x="1054080" y="6033960"/>
            <a:chExt cx="577800" cy="119160"/>
          </a:xfrm>
        </p:grpSpPr>
        <p:sp>
          <p:nvSpPr>
            <p:cNvPr id="230" name=""/>
            <p:cNvSpPr/>
            <p:nvPr/>
          </p:nvSpPr>
          <p:spPr>
            <a:xfrm>
              <a:off x="1054080" y="603396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508760" y="609804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５　リスト包含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例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llEven xs = (xs==[x|x&lt;-xs, isEven x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llOdd xs  = ([]==[x|x&lt;-xs, isEven x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llEven [2,4,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2,4,5]==[x|x&lt;-[2,4,5], isEven x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2,4,5]==[2,4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054080" y="4376880"/>
            <a:ext cx="577800" cy="118800"/>
            <a:chOff x="1054080" y="4376880"/>
            <a:chExt cx="577800" cy="118800"/>
          </a:xfrm>
        </p:grpSpPr>
        <p:sp>
          <p:nvSpPr>
            <p:cNvPr id="236" name=""/>
            <p:cNvSpPr/>
            <p:nvPr/>
          </p:nvSpPr>
          <p:spPr>
            <a:xfrm>
              <a:off x="1054080" y="437688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508760" y="44406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062000" y="4784760"/>
            <a:ext cx="577800" cy="119160"/>
            <a:chOff x="1062000" y="4784760"/>
            <a:chExt cx="577800" cy="119160"/>
          </a:xfrm>
        </p:grpSpPr>
        <p:sp>
          <p:nvSpPr>
            <p:cNvPr id="239" name=""/>
            <p:cNvSpPr/>
            <p:nvPr/>
          </p:nvSpPr>
          <p:spPr>
            <a:xfrm>
              <a:off x="1062000" y="478476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516680" y="484884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069920" y="5192640"/>
            <a:ext cx="577800" cy="119160"/>
            <a:chOff x="1069920" y="5192640"/>
            <a:chExt cx="577800" cy="119160"/>
          </a:xfrm>
        </p:grpSpPr>
        <p:sp>
          <p:nvSpPr>
            <p:cNvPr id="242" name=""/>
            <p:cNvSpPr/>
            <p:nvPr/>
          </p:nvSpPr>
          <p:spPr>
            <a:xfrm>
              <a:off x="1069920" y="519264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524600" y="525672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900000" y="4238640"/>
            <a:ext cx="7953480" cy="1335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6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練習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5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正整数の因子のリストを返す関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ivisors :: Int -&gt; [Int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ivisors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[x | x&lt;-[1..n], n `mod` x==0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正整数の素数性判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sPrime :: Int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sPrime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 &gt; 0 = divisors n == [1,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=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57240" y="3330720"/>
            <a:ext cx="721368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50760" y="5567400"/>
            <a:ext cx="7172640" cy="1290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１　タプル，リストおよび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タプ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異なる型　固定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”Salt: 1kg”,139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”Plain: crisps”,25) :: (String,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’a’,96,-1),(’x’,128,1)::(Char,Int,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1.2,True,(’a’,10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:: (Float,Bool,(Char,Int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:: [Bool]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:: [[Char]]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:: [a]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:: [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]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:: [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[Int]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]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:: [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Char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]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99"/>
                </a:solidFill>
                <a:latin typeface="Courier New"/>
              </a:rPr>
              <a:t>インスタンス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(insta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７　汎用関数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多様性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多様性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polymorph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225960" y="3338640"/>
            <a:ext cx="4225680" cy="915840"/>
            <a:chOff x="3225960" y="3338640"/>
            <a:chExt cx="4225680" cy="915840"/>
          </a:xfrm>
        </p:grpSpPr>
        <p:sp>
          <p:nvSpPr>
            <p:cNvPr id="254" name=""/>
            <p:cNvSpPr/>
            <p:nvPr/>
          </p:nvSpPr>
          <p:spPr>
            <a:xfrm>
              <a:off x="3225960" y="3759120"/>
              <a:ext cx="492120" cy="49536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38760" y="3338640"/>
              <a:ext cx="1712880" cy="900000"/>
            </a:xfrm>
            <a:prstGeom prst="rect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3399"/>
                  </a:solidFill>
                  <a:latin typeface="Arial"/>
                </a:rPr>
                <a:t>型変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99"/>
                  </a:solidFill>
                  <a:latin typeface="Times New Roman"/>
                </a:rPr>
                <a:t>type var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4" idx="6"/>
              <a:endCxn id="255" idx="1"/>
            </p:cNvCxnSpPr>
            <p:nvPr/>
          </p:nvCxnSpPr>
          <p:spPr>
            <a:xfrm flipV="1">
              <a:off x="3736800" y="3789000"/>
              <a:ext cx="1983240" cy="218160"/>
            </a:xfrm>
            <a:prstGeom prst="straightConnector1">
              <a:avLst/>
            </a:prstGeom>
            <a:ln w="38160">
              <a:solidFill>
                <a:srgbClr val="ff3399"/>
              </a:solidFill>
              <a:miter/>
            </a:ln>
          </p:spPr>
        </p:cxnSp>
      </p:grpSp>
      <p:sp>
        <p:nvSpPr>
          <p:cNvPr id="257" name=""/>
          <p:cNvSpPr/>
          <p:nvPr/>
        </p:nvSpPr>
        <p:spPr>
          <a:xfrm>
            <a:off x="812880" y="4610160"/>
            <a:ext cx="5499000" cy="181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132000" y="4238640"/>
            <a:ext cx="5761080" cy="1081080"/>
            <a:chOff x="3132000" y="4238640"/>
            <a:chExt cx="5761080" cy="1081080"/>
          </a:xfrm>
        </p:grpSpPr>
        <p:sp>
          <p:nvSpPr>
            <p:cNvPr id="259" name=""/>
            <p:cNvSpPr/>
            <p:nvPr/>
          </p:nvSpPr>
          <p:spPr>
            <a:xfrm>
              <a:off x="3132000" y="4238640"/>
              <a:ext cx="2160720" cy="90360"/>
            </a:xfrm>
            <a:custGeom>
              <a:avLst/>
              <a:gdLst/>
              <a:ahLst/>
              <a:rect l="l" t="t" r="r" b="b"/>
              <a:pathLst>
                <a:path w="1361" h="57">
                  <a:moveTo>
                    <a:pt x="0" y="57"/>
                  </a:moveTo>
                  <a:cubicBezTo>
                    <a:pt x="37" y="28"/>
                    <a:pt x="75" y="0"/>
                    <a:pt x="113" y="0"/>
                  </a:cubicBezTo>
                  <a:cubicBezTo>
                    <a:pt x="151" y="0"/>
                    <a:pt x="189" y="57"/>
                    <a:pt x="227" y="57"/>
                  </a:cubicBezTo>
                  <a:cubicBezTo>
                    <a:pt x="265" y="57"/>
                    <a:pt x="302" y="0"/>
                    <a:pt x="340" y="0"/>
                  </a:cubicBezTo>
                  <a:cubicBezTo>
                    <a:pt x="378" y="0"/>
                    <a:pt x="415" y="57"/>
                    <a:pt x="453" y="57"/>
                  </a:cubicBezTo>
                  <a:cubicBezTo>
                    <a:pt x="491" y="57"/>
                    <a:pt x="529" y="0"/>
                    <a:pt x="567" y="0"/>
                  </a:cubicBezTo>
                  <a:cubicBezTo>
                    <a:pt x="605" y="0"/>
                    <a:pt x="642" y="57"/>
                    <a:pt x="680" y="57"/>
                  </a:cubicBezTo>
                  <a:cubicBezTo>
                    <a:pt x="718" y="57"/>
                    <a:pt x="756" y="0"/>
                    <a:pt x="794" y="0"/>
                  </a:cubicBezTo>
                  <a:cubicBezTo>
                    <a:pt x="832" y="0"/>
                    <a:pt x="869" y="57"/>
                    <a:pt x="907" y="57"/>
                  </a:cubicBezTo>
                  <a:cubicBezTo>
                    <a:pt x="945" y="57"/>
                    <a:pt x="982" y="0"/>
                    <a:pt x="1020" y="0"/>
                  </a:cubicBezTo>
                  <a:cubicBezTo>
                    <a:pt x="1058" y="0"/>
                    <a:pt x="1096" y="57"/>
                    <a:pt x="1134" y="57"/>
                  </a:cubicBezTo>
                  <a:cubicBezTo>
                    <a:pt x="1172" y="57"/>
                    <a:pt x="1209" y="0"/>
                    <a:pt x="1247" y="0"/>
                  </a:cubicBezTo>
                  <a:cubicBezTo>
                    <a:pt x="1285" y="0"/>
                    <a:pt x="1323" y="28"/>
                    <a:pt x="1361" y="57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2000" y="4465800"/>
              <a:ext cx="2881080" cy="853920"/>
            </a:xfrm>
            <a:prstGeom prst="rect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3399"/>
                  </a:solidFill>
                  <a:latin typeface="Courier New"/>
                </a:rPr>
                <a:t>最も一般的な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99"/>
                  </a:solidFill>
                  <a:latin typeface="Times New Roman"/>
                </a:rPr>
                <a:t>most general 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59" idx="0"/>
              <a:endCxn id="260" idx="1"/>
            </p:cNvCxnSpPr>
            <p:nvPr/>
          </p:nvCxnSpPr>
          <p:spPr>
            <a:xfrm>
              <a:off x="4211640" y="4347720"/>
              <a:ext cx="1782000" cy="545400"/>
            </a:xfrm>
            <a:prstGeom prst="straightConnector1">
              <a:avLst/>
            </a:prstGeom>
            <a:ln w="38160">
              <a:solidFill>
                <a:srgbClr val="ff3399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++) :: [a] -&gt; [a] -&gt; [a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1,2,3] ++ [4,5,6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1,2,3,4,5,6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”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hot” ++ ”dog”    ”hotdo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1,2,3] ++ ”do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1,2,3,’d’,’o’,’g’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７　汎用関数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多様性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多様性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polymorph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038240" y="3921120"/>
            <a:ext cx="577800" cy="119160"/>
            <a:chOff x="1038240" y="3921120"/>
            <a:chExt cx="577800" cy="119160"/>
          </a:xfrm>
        </p:grpSpPr>
        <p:sp>
          <p:nvSpPr>
            <p:cNvPr id="266" name=""/>
            <p:cNvSpPr/>
            <p:nvPr/>
          </p:nvSpPr>
          <p:spPr>
            <a:xfrm>
              <a:off x="1038240" y="39211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1492920" y="39852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023840" y="6054840"/>
            <a:ext cx="577800" cy="118800"/>
            <a:chOff x="1023840" y="6054840"/>
            <a:chExt cx="577800" cy="118800"/>
          </a:xfrm>
        </p:grpSpPr>
        <p:sp>
          <p:nvSpPr>
            <p:cNvPr id="269" name=""/>
            <p:cNvSpPr/>
            <p:nvPr/>
          </p:nvSpPr>
          <p:spPr>
            <a:xfrm>
              <a:off x="1023840" y="605484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478520" y="611856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173480" y="4778280"/>
            <a:ext cx="577800" cy="119160"/>
            <a:chOff x="4173480" y="4778280"/>
            <a:chExt cx="577800" cy="119160"/>
          </a:xfrm>
        </p:grpSpPr>
        <p:sp>
          <p:nvSpPr>
            <p:cNvPr id="272" name=""/>
            <p:cNvSpPr/>
            <p:nvPr/>
          </p:nvSpPr>
          <p:spPr>
            <a:xfrm>
              <a:off x="4173480" y="477828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628160" y="484236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2669400">
            <a:off x="2367000" y="5273640"/>
            <a:ext cx="1170000" cy="1170000"/>
          </a:xfrm>
          <a:prstGeom prst="plus">
            <a:avLst>
              <a:gd name="adj" fmla="val 42333"/>
            </a:avLst>
          </a:prstGeom>
          <a:solidFill>
            <a:srgbClr val="ff33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zip   :: [a] -&gt; [b] -&gt; [(a,b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unzip :: [(a,b)] -&gt; ([a],[b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zip :: [Int] -&gt; [Char] -&gt; [(Int,Char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zip [1,2,3] ”ah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(1,’a’),(2,’h’),(3,’o’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unzip [(Int,Int)] -&gt; ([Int],[Int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unzip [(1,9),(2,8),(3,7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[1,2,3],[9,8,7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７　汎用関数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多様性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多様性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polymorph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038240" y="4778280"/>
            <a:ext cx="577800" cy="119160"/>
            <a:chOff x="1038240" y="4778280"/>
            <a:chExt cx="577800" cy="119160"/>
          </a:xfrm>
        </p:grpSpPr>
        <p:sp>
          <p:nvSpPr>
            <p:cNvPr id="279" name=""/>
            <p:cNvSpPr/>
            <p:nvPr/>
          </p:nvSpPr>
          <p:spPr>
            <a:xfrm>
              <a:off x="1038240" y="477828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1492920" y="484236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062000" y="6489720"/>
            <a:ext cx="577800" cy="119160"/>
            <a:chOff x="1062000" y="6489720"/>
            <a:chExt cx="577800" cy="119160"/>
          </a:xfrm>
        </p:grpSpPr>
        <p:sp>
          <p:nvSpPr>
            <p:cNvPr id="282" name=""/>
            <p:cNvSpPr/>
            <p:nvPr/>
          </p:nvSpPr>
          <p:spPr>
            <a:xfrm>
              <a:off x="1062000" y="64897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1516680" y="65538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型に関する制約条件によって多様型の関数の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が決まる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d :: a -&gt;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d x =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st :: (a,b) -&gt;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st (x,y) =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７　汎用関数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多様性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型と定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型に関する制約条件によって多様型の関数の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が決まる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stery :: (a,b) -&gt;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stery (x,y) = if x then ’c’ else ’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７　汎用関数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多様性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型と定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971640" y="4179960"/>
            <a:ext cx="4437000" cy="2309760"/>
            <a:chOff x="971640" y="4179960"/>
            <a:chExt cx="4437000" cy="2309760"/>
          </a:xfrm>
        </p:grpSpPr>
        <p:sp>
          <p:nvSpPr>
            <p:cNvPr id="291" name=""/>
            <p:cNvSpPr/>
            <p:nvPr/>
          </p:nvSpPr>
          <p:spPr>
            <a:xfrm>
              <a:off x="4957920" y="4179960"/>
              <a:ext cx="450720" cy="45072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71640" y="5230800"/>
              <a:ext cx="2520720" cy="1258920"/>
            </a:xfrm>
            <a:prstGeom prst="rect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99"/>
                  </a:solidFill>
                  <a:latin typeface="Courier New"/>
                </a:rPr>
                <a:t>Bool</a:t>
              </a:r>
              <a:r>
                <a:rPr b="1" lang="ja-JP" sz="4000" spc="-1" strike="noStrike">
                  <a:solidFill>
                    <a:srgbClr val="ff3399"/>
                  </a:solidFill>
                  <a:latin typeface="Courier New"/>
                </a:rPr>
                <a:t>型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99"/>
                  </a:solidFill>
                  <a:latin typeface="Courier New"/>
                </a:rPr>
                <a:t>a </a:t>
              </a:r>
              <a:r>
                <a:rPr b="0" lang="en-US" sz="4000" spc="-1" strike="noStrike">
                  <a:solidFill>
                    <a:srgbClr val="ff3399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3399"/>
                  </a:solidFill>
                  <a:latin typeface="Courier New"/>
                </a:rPr>
                <a:t> Boo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3" name=""/>
            <p:cNvCxnSpPr>
              <a:stCxn id="291" idx="3"/>
              <a:endCxn id="292" idx="3"/>
            </p:cNvCxnSpPr>
            <p:nvPr/>
          </p:nvCxnSpPr>
          <p:spPr>
            <a:xfrm flipH="1">
              <a:off x="3510720" y="4583160"/>
              <a:ext cx="1513800" cy="1278720"/>
            </a:xfrm>
            <a:prstGeom prst="straightConnector1">
              <a:avLst/>
            </a:prstGeom>
            <a:ln w="38160">
              <a:solidFill>
                <a:srgbClr val="ff3399"/>
              </a:solidFill>
              <a:miter/>
            </a:ln>
          </p:spPr>
        </p:cxnSp>
      </p:grpSp>
      <p:grpSp>
        <p:nvGrpSpPr>
          <p:cNvPr id="294" name=""/>
          <p:cNvGrpSpPr/>
          <p:nvPr/>
        </p:nvGrpSpPr>
        <p:grpSpPr>
          <a:xfrm>
            <a:off x="4572000" y="4170240"/>
            <a:ext cx="4437000" cy="2273400"/>
            <a:chOff x="4572000" y="4170240"/>
            <a:chExt cx="4437000" cy="2273400"/>
          </a:xfrm>
        </p:grpSpPr>
        <p:sp>
          <p:nvSpPr>
            <p:cNvPr id="295" name=""/>
            <p:cNvSpPr/>
            <p:nvPr/>
          </p:nvSpPr>
          <p:spPr>
            <a:xfrm>
              <a:off x="6629400" y="4175280"/>
              <a:ext cx="450720" cy="45072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558280" y="4170240"/>
              <a:ext cx="450720" cy="45108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72000" y="5230800"/>
              <a:ext cx="4321080" cy="1212840"/>
            </a:xfrm>
            <a:prstGeom prst="rect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000" spc="-1" strike="noStrike">
                  <a:solidFill>
                    <a:srgbClr val="ff3399"/>
                  </a:solidFill>
                  <a:latin typeface="Courier New"/>
                </a:rPr>
                <a:t>結果は</a:t>
              </a:r>
              <a:r>
                <a:rPr b="1" lang="en-US" sz="4000" spc="-1" strike="noStrike">
                  <a:solidFill>
                    <a:srgbClr val="ff3399"/>
                  </a:solidFill>
                  <a:latin typeface="Courier New"/>
                </a:rPr>
                <a:t>Char</a:t>
              </a:r>
              <a:r>
                <a:rPr b="1" lang="ja-JP" sz="4000" spc="-1" strike="noStrike">
                  <a:solidFill>
                    <a:srgbClr val="ff3399"/>
                  </a:solidFill>
                  <a:latin typeface="Courier New"/>
                </a:rPr>
                <a:t>型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99"/>
                  </a:solidFill>
                  <a:latin typeface="Courier New"/>
                </a:rPr>
                <a:t>c </a:t>
              </a:r>
              <a:r>
                <a:rPr b="0" lang="en-US" sz="4000" spc="-1" strike="noStrike">
                  <a:solidFill>
                    <a:srgbClr val="ff3399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3399"/>
                  </a:solidFill>
                  <a:latin typeface="Courier New"/>
                </a:rPr>
                <a:t> Cha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8" name=""/>
            <p:cNvCxnSpPr>
              <a:stCxn id="295" idx="4"/>
              <a:endCxn id="297" idx="0"/>
            </p:cNvCxnSpPr>
            <p:nvPr/>
          </p:nvCxnSpPr>
          <p:spPr>
            <a:xfrm flipH="1">
              <a:off x="6732360" y="4645080"/>
              <a:ext cx="122400" cy="567360"/>
            </a:xfrm>
            <a:prstGeom prst="straightConnector1">
              <a:avLst/>
            </a:prstGeom>
            <a:ln w="38160">
              <a:solidFill>
                <a:srgbClr val="ff3399"/>
              </a:solidFill>
              <a:miter/>
            </a:ln>
          </p:spPr>
        </p:cxnSp>
        <p:cxnSp>
          <p:nvCxnSpPr>
            <p:cNvPr id="299" name=""/>
            <p:cNvCxnSpPr>
              <a:stCxn id="296" idx="3"/>
              <a:endCxn id="297" idx="0"/>
            </p:cNvCxnSpPr>
            <p:nvPr/>
          </p:nvCxnSpPr>
          <p:spPr>
            <a:xfrm flipH="1">
              <a:off x="6732360" y="4573080"/>
              <a:ext cx="1892880" cy="639000"/>
            </a:xfrm>
            <a:prstGeom prst="straightConnector1">
              <a:avLst/>
            </a:prstGeom>
            <a:ln w="38160">
              <a:solidFill>
                <a:srgbClr val="ff3399"/>
              </a:solidFill>
              <a:miter/>
            </a:ln>
          </p:spPr>
        </p:cxnSp>
      </p:grpSp>
      <p:grpSp>
        <p:nvGrpSpPr>
          <p:cNvPr id="300" name=""/>
          <p:cNvGrpSpPr/>
          <p:nvPr/>
        </p:nvGrpSpPr>
        <p:grpSpPr>
          <a:xfrm>
            <a:off x="3446640" y="3068640"/>
            <a:ext cx="5356080" cy="1139760"/>
            <a:chOff x="3446640" y="3068640"/>
            <a:chExt cx="5356080" cy="1139760"/>
          </a:xfrm>
        </p:grpSpPr>
        <p:sp>
          <p:nvSpPr>
            <p:cNvPr id="301" name=""/>
            <p:cNvSpPr/>
            <p:nvPr/>
          </p:nvSpPr>
          <p:spPr>
            <a:xfrm>
              <a:off x="3446640" y="4103640"/>
              <a:ext cx="2070000" cy="104760"/>
            </a:xfrm>
            <a:custGeom>
              <a:avLst/>
              <a:gdLst/>
              <a:ahLst/>
              <a:rect l="l" t="t" r="r" b="b"/>
              <a:pathLst>
                <a:path w="1304" h="66">
                  <a:moveTo>
                    <a:pt x="0" y="57"/>
                  </a:moveTo>
                  <a:cubicBezTo>
                    <a:pt x="37" y="28"/>
                    <a:pt x="75" y="0"/>
                    <a:pt x="113" y="0"/>
                  </a:cubicBezTo>
                  <a:cubicBezTo>
                    <a:pt x="151" y="0"/>
                    <a:pt x="188" y="57"/>
                    <a:pt x="226" y="57"/>
                  </a:cubicBezTo>
                  <a:cubicBezTo>
                    <a:pt x="264" y="57"/>
                    <a:pt x="302" y="0"/>
                    <a:pt x="340" y="0"/>
                  </a:cubicBezTo>
                  <a:cubicBezTo>
                    <a:pt x="378" y="0"/>
                    <a:pt x="425" y="48"/>
                    <a:pt x="453" y="57"/>
                  </a:cubicBezTo>
                  <a:cubicBezTo>
                    <a:pt x="481" y="66"/>
                    <a:pt x="482" y="66"/>
                    <a:pt x="510" y="57"/>
                  </a:cubicBezTo>
                  <a:cubicBezTo>
                    <a:pt x="538" y="48"/>
                    <a:pt x="585" y="0"/>
                    <a:pt x="623" y="0"/>
                  </a:cubicBezTo>
                  <a:cubicBezTo>
                    <a:pt x="661" y="0"/>
                    <a:pt x="699" y="57"/>
                    <a:pt x="737" y="57"/>
                  </a:cubicBezTo>
                  <a:cubicBezTo>
                    <a:pt x="775" y="57"/>
                    <a:pt x="812" y="0"/>
                    <a:pt x="850" y="0"/>
                  </a:cubicBezTo>
                  <a:cubicBezTo>
                    <a:pt x="888" y="0"/>
                    <a:pt x="925" y="57"/>
                    <a:pt x="963" y="57"/>
                  </a:cubicBezTo>
                  <a:cubicBezTo>
                    <a:pt x="1001" y="57"/>
                    <a:pt x="1039" y="0"/>
                    <a:pt x="1077" y="0"/>
                  </a:cubicBezTo>
                  <a:cubicBezTo>
                    <a:pt x="1115" y="0"/>
                    <a:pt x="1152" y="57"/>
                    <a:pt x="1190" y="57"/>
                  </a:cubicBezTo>
                  <a:cubicBezTo>
                    <a:pt x="1228" y="57"/>
                    <a:pt x="1266" y="28"/>
                    <a:pt x="1304" y="0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72000" y="3068640"/>
              <a:ext cx="33307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99"/>
                  </a:solidFill>
                  <a:latin typeface="Courier New"/>
                </a:rPr>
                <a:t>(Bool,b)-&gt;Cha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20364600">
              <a:off x="4978080" y="3474720"/>
              <a:ext cx="718920" cy="314280"/>
            </a:xfrm>
            <a:prstGeom prst="rightArrow">
              <a:avLst>
                <a:gd name="adj1" fmla="val 50000"/>
                <a:gd name="adj2" fmla="val 57188"/>
              </a:avLst>
            </a:prstGeom>
            <a:solidFill>
              <a:srgbClr val="ff3399"/>
            </a:solidFill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多様性：同一の定義で，異なる型に利用可能な関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多重定義：異なる型に対する異なる定義を重ねた関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==) :: [a] -&gt; [a]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==) [] [] =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==) (x:xs) (y:ys) = (x==y)&amp;&amp;(xs==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==) :: (a,b) -&gt; (a,b)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==) (n,m) (p,q) = (n==p)&amp;&amp;(m==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７　汎用関数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多様性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多様性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polymorphism)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と多重定義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overlo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最も一般的な型を定義せよ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nd (x,y) =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snd :: (a,b) -&gt;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ing x = [x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sing :: a -&gt; [a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練習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5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71640" y="4689360"/>
            <a:ext cx="4321080" cy="360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71640" y="3429000"/>
            <a:ext cx="4321080" cy="360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d :: [[a]] -&gt; [[a]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id [[3,1],[4],[]]   [[3,1],[4],[]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id [”a”,”cat”]   [”a”,”cat”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[a]] -&gt; [[a]]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が最も一般的な型でないのか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id 1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id ”string”   ”str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のような場合の型を表すことができないから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練習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5.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71640" y="2978280"/>
            <a:ext cx="792144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668840" y="3068640"/>
            <a:ext cx="577800" cy="119160"/>
            <a:chOff x="4668840" y="3068640"/>
            <a:chExt cx="577800" cy="119160"/>
          </a:xfrm>
        </p:grpSpPr>
        <p:sp>
          <p:nvSpPr>
            <p:cNvPr id="317" name=""/>
            <p:cNvSpPr/>
            <p:nvPr/>
          </p:nvSpPr>
          <p:spPr>
            <a:xfrm>
              <a:off x="4668840" y="306864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123520" y="3132720"/>
              <a:ext cx="123120" cy="28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038480" y="3535200"/>
            <a:ext cx="577800" cy="119160"/>
            <a:chOff x="4038480" y="3535200"/>
            <a:chExt cx="577800" cy="119160"/>
          </a:xfrm>
        </p:grpSpPr>
        <p:sp>
          <p:nvSpPr>
            <p:cNvPr id="320" name=""/>
            <p:cNvSpPr/>
            <p:nvPr/>
          </p:nvSpPr>
          <p:spPr>
            <a:xfrm>
              <a:off x="4038480" y="35352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4493160" y="3599280"/>
              <a:ext cx="123120" cy="28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916280" y="4778280"/>
            <a:ext cx="577800" cy="119160"/>
            <a:chOff x="1916280" y="4778280"/>
            <a:chExt cx="577800" cy="119160"/>
          </a:xfrm>
        </p:grpSpPr>
        <p:sp>
          <p:nvSpPr>
            <p:cNvPr id="323" name=""/>
            <p:cNvSpPr/>
            <p:nvPr/>
          </p:nvSpPr>
          <p:spPr>
            <a:xfrm>
              <a:off x="1916280" y="477828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370960" y="4842360"/>
              <a:ext cx="123120" cy="28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408480" y="5245200"/>
            <a:ext cx="577800" cy="118800"/>
            <a:chOff x="3408480" y="5245200"/>
            <a:chExt cx="577800" cy="118800"/>
          </a:xfrm>
        </p:grpSpPr>
        <p:sp>
          <p:nvSpPr>
            <p:cNvPr id="326" name=""/>
            <p:cNvSpPr/>
            <p:nvPr/>
          </p:nvSpPr>
          <p:spPr>
            <a:xfrm>
              <a:off x="3408480" y="524520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3863160" y="5308920"/>
              <a:ext cx="123120" cy="28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971640" y="2978280"/>
            <a:ext cx="7470720" cy="811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71640" y="4689360"/>
            <a:ext cx="7200720" cy="1349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８　</a:t>
            </a:r>
            <a:r>
              <a:rPr b="1" lang="en-US" sz="4700" spc="-1" strike="noStrike">
                <a:solidFill>
                  <a:srgbClr val="ffff66"/>
                </a:solidFill>
                <a:latin typeface="Courier New"/>
              </a:rPr>
              <a:t>Prelude.hs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中に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多様型のリスト演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:)    :: a -&gt; [a] -&gt; [a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3:[2,3]   [3,2,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++)   :: [a] -&gt; [a] -&gt; [a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”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Ron” ++ ”aldo”   ”Ronal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!!)   :: [a] -&gt; Int -&gt;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[14,7,3] !! 1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concat :: [[a]] -&gt; [a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concat [[2,3],[],[4]]   [2,3,4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ength :: [a]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length ”word” 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997360" y="3114720"/>
            <a:ext cx="577800" cy="119160"/>
            <a:chOff x="2997360" y="3114720"/>
            <a:chExt cx="577800" cy="119160"/>
          </a:xfrm>
        </p:grpSpPr>
        <p:sp>
          <p:nvSpPr>
            <p:cNvPr id="334" name=""/>
            <p:cNvSpPr/>
            <p:nvPr/>
          </p:nvSpPr>
          <p:spPr>
            <a:xfrm>
              <a:off x="2997360" y="31147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3452040" y="3178800"/>
              <a:ext cx="123120" cy="28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662360" y="3940200"/>
            <a:ext cx="577800" cy="119160"/>
            <a:chOff x="4662360" y="3940200"/>
            <a:chExt cx="577800" cy="119160"/>
          </a:xfrm>
        </p:grpSpPr>
        <p:sp>
          <p:nvSpPr>
            <p:cNvPr id="337" name=""/>
            <p:cNvSpPr/>
            <p:nvPr/>
          </p:nvSpPr>
          <p:spPr>
            <a:xfrm>
              <a:off x="4662360" y="39402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117040" y="4004280"/>
              <a:ext cx="123120" cy="28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257720" y="4795920"/>
            <a:ext cx="577800" cy="119160"/>
            <a:chOff x="4257720" y="4795920"/>
            <a:chExt cx="577800" cy="119160"/>
          </a:xfrm>
        </p:grpSpPr>
        <p:sp>
          <p:nvSpPr>
            <p:cNvPr id="340" name=""/>
            <p:cNvSpPr/>
            <p:nvPr/>
          </p:nvSpPr>
          <p:spPr>
            <a:xfrm>
              <a:off x="4257720" y="47959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712400" y="4860000"/>
              <a:ext cx="123120" cy="28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973840" y="5678640"/>
            <a:ext cx="577800" cy="118800"/>
            <a:chOff x="5973840" y="5678640"/>
            <a:chExt cx="577800" cy="118800"/>
          </a:xfrm>
        </p:grpSpPr>
        <p:sp>
          <p:nvSpPr>
            <p:cNvPr id="343" name=""/>
            <p:cNvSpPr/>
            <p:nvPr/>
          </p:nvSpPr>
          <p:spPr>
            <a:xfrm>
              <a:off x="5973840" y="567864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428520" y="5742360"/>
              <a:ext cx="123120" cy="28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257720" y="6505560"/>
            <a:ext cx="577800" cy="119160"/>
            <a:chOff x="4257720" y="6505560"/>
            <a:chExt cx="577800" cy="119160"/>
          </a:xfrm>
        </p:grpSpPr>
        <p:sp>
          <p:nvSpPr>
            <p:cNvPr id="346" name=""/>
            <p:cNvSpPr/>
            <p:nvPr/>
          </p:nvSpPr>
          <p:spPr>
            <a:xfrm>
              <a:off x="4257720" y="650556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4712400" y="6569640"/>
              <a:ext cx="123120" cy="28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８　</a:t>
            </a:r>
            <a:r>
              <a:rPr b="1" lang="en-US" sz="4700" spc="-1" strike="noStrike">
                <a:solidFill>
                  <a:srgbClr val="ffff66"/>
                </a:solidFill>
                <a:latin typeface="Courier New"/>
              </a:rPr>
              <a:t>Prelude.hs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中に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多様型のリスト演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head,last :: [a] -&gt;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head ”word”   ’w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last ”word”   ’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ail,init :: [a] -&gt; [a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tail ”word”   ”o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init ”word”   ”w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plicate :: Int -&gt; a -&gt; [a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replicate 3 ’c’   ”ccc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ake      :: Int -&gt; [a] -&gt; [a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take 3 ”Peccary”   ”Pec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859200" y="3068640"/>
            <a:ext cx="577800" cy="119160"/>
            <a:chOff x="3859200" y="3068640"/>
            <a:chExt cx="577800" cy="119160"/>
          </a:xfrm>
        </p:grpSpPr>
        <p:sp>
          <p:nvSpPr>
            <p:cNvPr id="352" name=""/>
            <p:cNvSpPr/>
            <p:nvPr/>
          </p:nvSpPr>
          <p:spPr>
            <a:xfrm>
              <a:off x="3859200" y="306864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4313880" y="3132720"/>
              <a:ext cx="123120" cy="28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830760" y="4373640"/>
            <a:ext cx="577800" cy="119160"/>
            <a:chOff x="3830760" y="4373640"/>
            <a:chExt cx="577800" cy="119160"/>
          </a:xfrm>
        </p:grpSpPr>
        <p:sp>
          <p:nvSpPr>
            <p:cNvPr id="355" name=""/>
            <p:cNvSpPr/>
            <p:nvPr/>
          </p:nvSpPr>
          <p:spPr>
            <a:xfrm>
              <a:off x="3830760" y="437364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285440" y="4437720"/>
              <a:ext cx="123120" cy="28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668840" y="5678640"/>
            <a:ext cx="577800" cy="118800"/>
            <a:chOff x="4668840" y="5678640"/>
            <a:chExt cx="577800" cy="118800"/>
          </a:xfrm>
        </p:grpSpPr>
        <p:sp>
          <p:nvSpPr>
            <p:cNvPr id="358" name=""/>
            <p:cNvSpPr/>
            <p:nvPr/>
          </p:nvSpPr>
          <p:spPr>
            <a:xfrm>
              <a:off x="4668840" y="567864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5123520" y="5742360"/>
              <a:ext cx="123120" cy="28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894200" y="6505560"/>
            <a:ext cx="577800" cy="119160"/>
            <a:chOff x="4894200" y="6505560"/>
            <a:chExt cx="577800" cy="119160"/>
          </a:xfrm>
        </p:grpSpPr>
        <p:sp>
          <p:nvSpPr>
            <p:cNvPr id="361" name=""/>
            <p:cNvSpPr/>
            <p:nvPr/>
          </p:nvSpPr>
          <p:spPr>
            <a:xfrm>
              <a:off x="4894200" y="650556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5348880" y="6569640"/>
              <a:ext cx="123120" cy="28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859200" y="3535200"/>
            <a:ext cx="577800" cy="119160"/>
            <a:chOff x="3859200" y="3535200"/>
            <a:chExt cx="577800" cy="119160"/>
          </a:xfrm>
        </p:grpSpPr>
        <p:sp>
          <p:nvSpPr>
            <p:cNvPr id="364" name=""/>
            <p:cNvSpPr/>
            <p:nvPr/>
          </p:nvSpPr>
          <p:spPr>
            <a:xfrm>
              <a:off x="3859200" y="35352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313880" y="3599280"/>
              <a:ext cx="123120" cy="28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822840" y="4795920"/>
            <a:ext cx="577800" cy="119160"/>
            <a:chOff x="3822840" y="4795920"/>
            <a:chExt cx="577800" cy="119160"/>
          </a:xfrm>
        </p:grpSpPr>
        <p:sp>
          <p:nvSpPr>
            <p:cNvPr id="367" name=""/>
            <p:cNvSpPr/>
            <p:nvPr/>
          </p:nvSpPr>
          <p:spPr>
            <a:xfrm>
              <a:off x="3822840" y="47959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4277520" y="4860000"/>
              <a:ext cx="123120" cy="28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１　タプル，リストおよび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リス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同じ型　任意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(”Salt: 1kg”,139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”Plain: crisps”,25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”Gin: 1lt”,1099)] :: [(String,Int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1,2,3,4,5] :: [Int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’a’,’b’,’c’,’d’] :: [Char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= ”abcd”          =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07960" y="6327720"/>
            <a:ext cx="6313680" cy="530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８　</a:t>
            </a:r>
            <a:r>
              <a:rPr b="1" lang="en-US" sz="4700" spc="-1" strike="noStrike">
                <a:solidFill>
                  <a:srgbClr val="ffff66"/>
                </a:solidFill>
                <a:latin typeface="Courier New"/>
              </a:rPr>
              <a:t>Prelude.hs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中に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単相型のリスト演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nd     :: [Bool]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and [True,False]  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or      :: [Bool]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or [True,False]  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     :: [Int]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     :: [Float] -&gt; [Float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sum [2,3,4]  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roduct :: [Int]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roduct :: [Float] -&gt; Fl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product [0.1,0.4 .. 1]   0.0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886280" y="3068640"/>
            <a:ext cx="577800" cy="119160"/>
            <a:chOff x="4886280" y="3068640"/>
            <a:chExt cx="577800" cy="119160"/>
          </a:xfrm>
        </p:grpSpPr>
        <p:sp>
          <p:nvSpPr>
            <p:cNvPr id="373" name=""/>
            <p:cNvSpPr/>
            <p:nvPr/>
          </p:nvSpPr>
          <p:spPr>
            <a:xfrm>
              <a:off x="4886280" y="306864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340960" y="3132720"/>
              <a:ext cx="123120" cy="28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807000" y="5200560"/>
            <a:ext cx="577800" cy="119160"/>
            <a:chOff x="3807000" y="5200560"/>
            <a:chExt cx="577800" cy="119160"/>
          </a:xfrm>
        </p:grpSpPr>
        <p:sp>
          <p:nvSpPr>
            <p:cNvPr id="376" name=""/>
            <p:cNvSpPr/>
            <p:nvPr/>
          </p:nvSpPr>
          <p:spPr>
            <a:xfrm>
              <a:off x="3807000" y="520056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4261680" y="5264640"/>
              <a:ext cx="123120" cy="28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154560" y="6505560"/>
            <a:ext cx="577800" cy="119160"/>
            <a:chOff x="6154560" y="6505560"/>
            <a:chExt cx="577800" cy="119160"/>
          </a:xfrm>
        </p:grpSpPr>
        <p:sp>
          <p:nvSpPr>
            <p:cNvPr id="379" name=""/>
            <p:cNvSpPr/>
            <p:nvPr/>
          </p:nvSpPr>
          <p:spPr>
            <a:xfrm>
              <a:off x="6154560" y="650556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609240" y="6569640"/>
              <a:ext cx="123120" cy="28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668840" y="3940200"/>
            <a:ext cx="577800" cy="119160"/>
            <a:chOff x="4668840" y="3940200"/>
            <a:chExt cx="577800" cy="119160"/>
          </a:xfrm>
        </p:grpSpPr>
        <p:sp>
          <p:nvSpPr>
            <p:cNvPr id="382" name=""/>
            <p:cNvSpPr/>
            <p:nvPr/>
          </p:nvSpPr>
          <p:spPr>
            <a:xfrm>
              <a:off x="4668840" y="39402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123520" y="4004280"/>
              <a:ext cx="123120" cy="28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８　</a:t>
            </a:r>
            <a:r>
              <a:rPr b="1" lang="en-US" sz="4700" spc="-1" strike="noStrike">
                <a:solidFill>
                  <a:srgbClr val="ffff66"/>
                </a:solidFill>
                <a:latin typeface="Courier New"/>
              </a:rPr>
              <a:t>Prelude.hs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中に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型の重要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ライブラリから関数を探すのにも役立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指定した回数だけの同一の要素からなるリスト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構成したい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型は，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nt -&gt; a -&gt; [a]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か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 -&gt; Int -&gt; [a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replicate :: Int -&gt; a -&gt; [a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８　</a:t>
            </a:r>
            <a:r>
              <a:rPr b="1" lang="en-US" sz="4700" spc="-1" strike="noStrike">
                <a:solidFill>
                  <a:srgbClr val="ffff66"/>
                </a:solidFill>
                <a:latin typeface="Courier New"/>
              </a:rPr>
              <a:t>Prelude.hs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中に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さらなる関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高階関数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(higher-order fun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明らかな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List.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９　</a:t>
            </a:r>
            <a:r>
              <a:rPr b="1" lang="en-US" sz="4700" spc="-1" strike="noStrike">
                <a:solidFill>
                  <a:srgbClr val="ffff66"/>
                </a:solidFill>
                <a:latin typeface="Courier New"/>
              </a:rPr>
              <a:t>String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特殊文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ype String = [Char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”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babo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”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\99a\116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”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gorilla\nhippo\nibex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”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1\t23\t456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９　</a:t>
            </a:r>
            <a:r>
              <a:rPr b="1" lang="en-US" sz="4700" spc="-1" strike="noStrike">
                <a:solidFill>
                  <a:srgbClr val="ffff66"/>
                </a:solidFill>
                <a:latin typeface="Courier New"/>
              </a:rPr>
              <a:t>String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出力関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utStr :: String -&gt; IO 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utStr ”baboon”   bab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utStr ””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utStr ”\99a\116”   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utStr ”gorilla\nhippo\nibex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gori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hip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b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utStr ”1\t23\t456”   1     23     4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073480" y="6489720"/>
            <a:ext cx="577800" cy="119160"/>
            <a:chOff x="5073480" y="6489720"/>
            <a:chExt cx="577800" cy="119160"/>
          </a:xfrm>
        </p:grpSpPr>
        <p:sp>
          <p:nvSpPr>
            <p:cNvPr id="397" name=""/>
            <p:cNvSpPr/>
            <p:nvPr/>
          </p:nvSpPr>
          <p:spPr>
            <a:xfrm>
              <a:off x="5073480" y="64897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5528160" y="65538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19560" y="3535200"/>
            <a:ext cx="577800" cy="119160"/>
            <a:chOff x="4219560" y="3535200"/>
            <a:chExt cx="577800" cy="119160"/>
          </a:xfrm>
        </p:grpSpPr>
        <p:sp>
          <p:nvSpPr>
            <p:cNvPr id="400" name=""/>
            <p:cNvSpPr/>
            <p:nvPr/>
          </p:nvSpPr>
          <p:spPr>
            <a:xfrm>
              <a:off x="4219560" y="35352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674240" y="35992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959200" y="3924360"/>
            <a:ext cx="577800" cy="119160"/>
            <a:chOff x="2959200" y="3924360"/>
            <a:chExt cx="577800" cy="119160"/>
          </a:xfrm>
        </p:grpSpPr>
        <p:sp>
          <p:nvSpPr>
            <p:cNvPr id="403" name=""/>
            <p:cNvSpPr/>
            <p:nvPr/>
          </p:nvSpPr>
          <p:spPr>
            <a:xfrm>
              <a:off x="2959200" y="392436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3413880" y="398844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662360" y="4373640"/>
            <a:ext cx="577800" cy="119160"/>
            <a:chOff x="4662360" y="4373640"/>
            <a:chExt cx="577800" cy="119160"/>
          </a:xfrm>
        </p:grpSpPr>
        <p:sp>
          <p:nvSpPr>
            <p:cNvPr id="406" name=""/>
            <p:cNvSpPr/>
            <p:nvPr/>
          </p:nvSpPr>
          <p:spPr>
            <a:xfrm>
              <a:off x="4662360" y="437364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5117040" y="443772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062000" y="5229360"/>
            <a:ext cx="577800" cy="118800"/>
            <a:chOff x="1062000" y="5229360"/>
            <a:chExt cx="577800" cy="118800"/>
          </a:xfrm>
        </p:grpSpPr>
        <p:sp>
          <p:nvSpPr>
            <p:cNvPr id="409" name=""/>
            <p:cNvSpPr/>
            <p:nvPr/>
          </p:nvSpPr>
          <p:spPr>
            <a:xfrm>
              <a:off x="1062000" y="522936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1516680" y="52930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９　</a:t>
            </a:r>
            <a:r>
              <a:rPr b="1" lang="en-US" sz="4700" spc="-1" strike="noStrike">
                <a:solidFill>
                  <a:srgbClr val="ffff66"/>
                </a:solidFill>
                <a:latin typeface="Courier New"/>
              </a:rPr>
              <a:t>String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文字列と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ow (2+3)             ”5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how (True || False)   ”Tru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ad ”True”  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ad ”3”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read ”3”) ::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299200" y="3114720"/>
            <a:ext cx="577800" cy="119160"/>
            <a:chOff x="5299200" y="3114720"/>
            <a:chExt cx="577800" cy="119160"/>
          </a:xfrm>
        </p:grpSpPr>
        <p:sp>
          <p:nvSpPr>
            <p:cNvPr id="415" name=""/>
            <p:cNvSpPr/>
            <p:nvPr/>
          </p:nvSpPr>
          <p:spPr>
            <a:xfrm>
              <a:off x="5299200" y="31147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753880" y="31788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371760" y="3925800"/>
            <a:ext cx="577800" cy="119160"/>
            <a:chOff x="3371760" y="3925800"/>
            <a:chExt cx="577800" cy="119160"/>
          </a:xfrm>
        </p:grpSpPr>
        <p:sp>
          <p:nvSpPr>
            <p:cNvPr id="418" name=""/>
            <p:cNvSpPr/>
            <p:nvPr/>
          </p:nvSpPr>
          <p:spPr>
            <a:xfrm>
              <a:off x="3371760" y="39258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3826440" y="39898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99200" y="2635200"/>
            <a:ext cx="577800" cy="119160"/>
            <a:chOff x="5299200" y="2635200"/>
            <a:chExt cx="577800" cy="119160"/>
          </a:xfrm>
        </p:grpSpPr>
        <p:sp>
          <p:nvSpPr>
            <p:cNvPr id="421" name=""/>
            <p:cNvSpPr/>
            <p:nvPr/>
          </p:nvSpPr>
          <p:spPr>
            <a:xfrm>
              <a:off x="5299200" y="26352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753880" y="26992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363840" y="4344840"/>
            <a:ext cx="577800" cy="119160"/>
            <a:chOff x="3363840" y="4344840"/>
            <a:chExt cx="577800" cy="119160"/>
          </a:xfrm>
        </p:grpSpPr>
        <p:sp>
          <p:nvSpPr>
            <p:cNvPr id="424" name=""/>
            <p:cNvSpPr/>
            <p:nvPr/>
          </p:nvSpPr>
          <p:spPr>
            <a:xfrm>
              <a:off x="3363840" y="434484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3818520" y="440892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要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"/>
          </a:bodyPr>
          <a:p>
            <a:pPr marL="30600" indent="-306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タプルとリストを導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-306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パタン照合によるプログラミン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-306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リストの表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-306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リスト包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-306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多様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-306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リスト関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-306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urier New"/>
              </a:rPr>
              <a:t>String</a:t>
            </a:r>
            <a:r>
              <a:rPr b="0" lang="ja-JP" sz="3200" spc="-1" strike="noStrike">
                <a:solidFill>
                  <a:srgbClr val="ffff66"/>
                </a:solidFill>
                <a:latin typeface="Courier New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１　タプル，リストおよび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型の同義語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type synony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ype ShopItem = (String,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ype Basket = [ShopItem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ype String = [Char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(”Salt: 1kg”,139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”Plain: crisps”,25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”Gin: 1lt”,1099)]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[(”Salt: 1kg”,139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”Plain: crisps”,25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”Plain: crisps”,25)] :: Bas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２　タプル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型と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v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,v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,...,v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) :: (t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,t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,...,t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v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:: t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, v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:: t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, ..., v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n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:: t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95880" y="3208320"/>
            <a:ext cx="538200" cy="1346040"/>
          </a:xfrm>
          <a:prstGeom prst="upDownArrow">
            <a:avLst>
              <a:gd name="adj1" fmla="val 50000"/>
              <a:gd name="adj2" fmla="val 49788"/>
            </a:avLst>
          </a:prstGeom>
          <a:solidFill>
            <a:srgbClr val="ff3399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9800" y="4614840"/>
            <a:ext cx="7736040" cy="711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２　タプル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例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inAndMax :: Int -&gt; Int -&gt; (Int,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inAndMax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x&gt;=y        = (y,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  = (x,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inAndMax 1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1,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inAndMax 3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2,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038240" y="5221440"/>
            <a:ext cx="577800" cy="118800"/>
            <a:chOff x="1038240" y="5221440"/>
            <a:chExt cx="577800" cy="118800"/>
          </a:xfrm>
        </p:grpSpPr>
        <p:sp>
          <p:nvSpPr>
            <p:cNvPr id="64" name=""/>
            <p:cNvSpPr/>
            <p:nvPr/>
          </p:nvSpPr>
          <p:spPr>
            <a:xfrm>
              <a:off x="1038240" y="522144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492920" y="528516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31760" y="6076800"/>
            <a:ext cx="577800" cy="119160"/>
            <a:chOff x="1031760" y="6076800"/>
            <a:chExt cx="577800" cy="119160"/>
          </a:xfrm>
        </p:grpSpPr>
        <p:sp>
          <p:nvSpPr>
            <p:cNvPr id="67" name=""/>
            <p:cNvSpPr/>
            <p:nvPr/>
          </p:nvSpPr>
          <p:spPr>
            <a:xfrm>
              <a:off x="1031760" y="60768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486440" y="61408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967280" y="3792600"/>
            <a:ext cx="3552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0.0 1.0 (-3.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71960" y="3792600"/>
            <a:ext cx="3554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1.0 (-1.0) 0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73760" y="3780000"/>
            <a:ext cx="35971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1.0 (-2.0) (-2.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２　タプル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例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xSegment :: Float -&gt; Float -&gt; Fl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-&gt; (Float,Bo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84440" y="3381480"/>
            <a:ext cx="15840" cy="309240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14520" y="6299280"/>
            <a:ext cx="306540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685880" y="4848120"/>
            <a:ext cx="2860560" cy="182880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17680" y="5529240"/>
            <a:ext cx="1434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2.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02080" y="5227560"/>
            <a:ext cx="21607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2.1,Tr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525320" y="5224320"/>
            <a:ext cx="3049560" cy="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95880" y="5235480"/>
            <a:ext cx="21607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0,Fal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514520" y="3409920"/>
            <a:ext cx="3046320" cy="306072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1200" y="5522760"/>
            <a:ext cx="1434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0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89680" y="5229360"/>
            <a:ext cx="21603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0,Tr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73800" y="4586400"/>
            <a:ext cx="696960" cy="552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99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５．２　タプル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パタン照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ddPair :: (Int,Int)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ddPair (x,y) = x +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ddPair (5,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5+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038240" y="4363920"/>
            <a:ext cx="577800" cy="119160"/>
            <a:chOff x="1038240" y="4363920"/>
            <a:chExt cx="577800" cy="119160"/>
          </a:xfrm>
        </p:grpSpPr>
        <p:sp>
          <p:nvSpPr>
            <p:cNvPr id="90" name=""/>
            <p:cNvSpPr/>
            <p:nvPr/>
          </p:nvSpPr>
          <p:spPr>
            <a:xfrm>
              <a:off x="1038240" y="43639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492920" y="44280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046160" y="4772160"/>
            <a:ext cx="577800" cy="118800"/>
            <a:chOff x="1046160" y="4772160"/>
            <a:chExt cx="577800" cy="118800"/>
          </a:xfrm>
        </p:grpSpPr>
        <p:sp>
          <p:nvSpPr>
            <p:cNvPr id="93" name=""/>
            <p:cNvSpPr/>
            <p:nvPr/>
          </p:nvSpPr>
          <p:spPr>
            <a:xfrm>
              <a:off x="1046160" y="477216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1500840" y="48358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金子敬一</cp:lastModifiedBy>
  <dcterms:modified xsi:type="dcterms:W3CDTF">2009-05-11T11:41:39Z</dcterms:modified>
  <cp:revision>111</cp:revision>
  <dc:subject/>
  <dc:title>PowerPoint Presentation</dc:title>
</cp:coreProperties>
</file>